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585-7333-4365-9E71-7B5328BE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82C-4C4D-4170-B75F-D02C6435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4216E-F0C4-4137-91EF-4908EE8E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D6003-226F-43BD-BD2C-4661FA81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2D777-168B-4C0B-A206-D40BD5A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5533-8955-457B-A028-EB9D4C4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8DEB2-EA3F-4294-A066-A061E20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5E9DF-5B5D-4005-8923-EB918F5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3CF4D-BCC6-4A47-B8B8-4901E69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95F4F-B709-4189-A3A6-2CFC6937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54832-97DC-476D-AF60-FB342C5D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105BE-51E1-4BE0-A549-7C4887D2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165-CAFA-480F-A517-43F59DA3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16B71-203E-4BAB-893B-8FFB0D2C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398D9-D05C-42CF-A06C-4EA94A5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826EC-91B8-4553-AD66-78C074C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C011-F720-4613-A2A1-2D196774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7D75E-0B29-4BE6-B763-8DC80255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BE61E-C78B-438B-AC4D-09A7B2A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BA6E7-C819-437C-8B52-7AC7BD6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FC3D9-ECD9-487A-AA39-14A300E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8412-B5BF-4610-8F62-4FEE0AF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DCD01-805B-453B-9322-13B63AD8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A8F-AD6E-4AB3-9A0F-2636EA5A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23E9B-ED66-4B66-B74E-8B1E971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18E13-5E53-4DB9-B115-BEA8DF86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48E05E-220D-47D3-88CF-126379F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5429C-613A-4518-9A6D-566E09C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24E0CB-CB4B-4879-B6BE-4802840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9F0D9A-0EC5-4078-AD0F-09D0EA18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F75CBD-BDC5-4B0A-9E4F-E7759F1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D7B28C-A0C7-4B91-90AD-6957ADA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2F8135-5E17-4DAB-9BB5-B4AD35C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2D2BA0-4BB4-4308-AF74-84B363A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95D-45E0-4632-98E4-A7696C36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CB9415-4310-412E-B39D-ADBD1A3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FD542-760E-436E-8F3C-666A25E6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B8A761-83D7-40A9-B55F-A5AEDAB4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E77AC-BB1B-4232-8BCF-34922AE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794D1-84EC-4C0F-AE63-CB220CBA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28526-06FA-45D9-AFC5-5A201B4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97B6D-1DCB-43A3-8050-1D2265DD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A9C37-5C02-42E8-9A5F-5FCFCFF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237C-E3B9-4D3E-8A44-B0C5708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42BD6-AB10-41A0-8D85-F57A337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79FB-F7D9-4E42-B34B-9319F2C9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A642E-5302-40AE-BF03-7E30011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D5E16-7F53-40C1-BF09-A4A95947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319C9-E623-4C30-8045-E9EB174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E2DA0-B5EE-47D4-B5F0-F1D16885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A20C3-1AC1-4017-8D49-3A8BF6B6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A02D-55CD-4A96-BBF1-C816CB51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E90-551F-4A2A-9850-D2C0590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AF5-01A1-495C-A7C5-0C2FFD1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55A-4AEA-4A35-A6B1-77E0955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76DF-F429-467A-9CEB-E8DDC63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111-3C53-41C7-919F-A00DFA8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35F-BDF8-4005-8AB3-77F66EE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9BC2-4833-4675-A0F3-FB548B1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6FD-2617-40EB-A9CD-4EA5F52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205C-80E4-4488-84F4-FE02BF5B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9C1E-3799-4A25-B603-D7792284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9625-898C-4317-81C8-24F01DC4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8071-F493-4388-BD41-CF93BFB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882D-D25C-4482-9E1E-0982CA6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B08B-2FAC-446D-B1A4-ABE7E50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4D52-5BF3-4AAF-9DF4-780C602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C40-46BA-49E3-917C-01FE39A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6D2E-0F1A-4DB1-939F-040D356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F37C-B25B-4129-933B-0582F4C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79AA-3E06-4471-854B-7EE63B3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AAD1-1A4E-4566-9A28-E94F279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C8A5-E465-4EF5-B515-2AE1CD11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9A0A-ED81-460A-99E9-62CA7F34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CCAD-F2FB-4865-85DA-1EDDA37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1B5F-2D55-4328-B67C-4E32BC68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A7DC-5CE2-41AD-BB76-B444012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005F-E563-4736-9661-D018A50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842-E129-4FBF-A994-9308CA2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2F7B-EAD6-4532-9E12-9F475D38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610E-D3E3-4C3F-908D-98567BB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2179-C0C4-4A78-A5AC-509E2883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8B0F-5832-4B50-A099-C29FC17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70EF-729D-4C5B-BC13-DDB17B5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929A-09AC-464E-A4CD-C77F312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E894-F9F6-47F4-A7BD-FAA3EE5C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9B8C-EC16-442F-A398-910E516E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A92E-A3EE-4BA9-95B7-4AA1ACF7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096CA-2E78-4A97-9DD6-9B26EF4F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0E8-30F4-451A-A7BF-3134B94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0968-D6BD-4BE3-AF49-F6E8805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4F50-4502-46DB-9A3E-6DAE4A5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6E65-016F-45F8-B856-439B4AC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24CD-2D5A-4B55-8D7B-AD6C2FDA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D805C-BBF1-446B-A940-679C385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F0BB-6104-47AC-94AF-F6938843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E55D-9C89-4B23-B770-68FFC0C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1F22-A609-4BDD-8B07-D784E2A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8298-5F18-4BCF-8777-7B809674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27CB-33EA-4AB4-B50F-2BFCCE22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2C4-22F2-47CE-AAB2-C327D92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2ACB-0C9F-4DC1-B680-AE6505B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F40F2-C809-4937-B7F3-BBAF287D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4783-077F-4223-83FA-E00DC15E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A03B-1B10-4F5A-8F55-B3CF9F4B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F274-D48E-4096-8B6D-0F006CD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B8C72-8405-4E23-9D52-EC9B6C5C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B8DB7-99CB-4B6D-9D3D-365FB0B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EAA3-14AB-4E65-B59A-58B2F33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EE458-967D-4AAD-9450-A709F62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6C40-BC5C-4461-B67D-8D7FDF4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C6D-EAFD-40F3-AC9C-CC17386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FC48-99C6-4893-BE77-4774581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6C3F0-F48D-4800-A67A-54527F56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A48B-6B30-4961-9CF7-0565B36F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69F6-359F-4846-A7DB-54BBE7D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709D-35EF-43CF-9660-3B1BE481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BAC5-2C67-4F6B-B9EC-B83B0E4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09F2E-8566-4586-96B7-1B82572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1AC8-1B43-4BB5-B8E3-67521E1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ACB5-B58F-4968-B7BC-88E04D8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698E8-3FE3-4470-85DA-DBDBC3AC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F3F-4C15-4027-9126-6E2CFCA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9E3E-AAD1-4D10-B556-6C284B98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09FD-3CA6-4AF5-9AC3-E2934F8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D899-75DE-4592-A1E1-873B95AA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5420-F120-4C1E-8006-41759F12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5EC2-DFEA-4CC2-988C-E66E8ACC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2D7C-CAF4-4E5D-992D-3104D1BC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1B61E-3AF1-4F76-8DF0-4816F349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2CF2-7624-4A31-872A-20D87BB9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0C9D-CC5B-42BD-AEF3-B595B0A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88EF-82CE-411F-8498-5BB058D2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D4F-F167-4934-BDE3-65DDD7F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76E6-7EBC-470B-A994-0ACDAA9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21E2-DC82-44BA-836D-77B07E3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6CE4-5BFD-441A-B086-50364EA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FE137-E9D9-40CE-B286-DAA9573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A408-378D-4A87-8A0E-FB2E03D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86D5-156D-4DD6-AA81-3E4E2B56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D363-74BE-4E56-9C7C-B175957D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4DF9A-97DD-48C1-A7FD-33438097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18A9F-CD8C-400A-9756-51E5E339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6E5F-0C9D-46AA-B694-F41711C1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C8D3-3FFA-4711-8829-CB54B53434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CDD-D9ED-425A-9F10-4D3A6DF48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532-C05A-4770-8C72-4A31C07A32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E14-92FA-4145-A6F6-0A2DA0D79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CD4-5795-49FE-87A5-8A6362D752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16AA-37BF-4AE0-9C15-D830AD8DD1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190-E78C-456B-A9F5-02030F6E2E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C0A-639E-4D23-95C1-F9CA33F186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4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7EBC-BF6A-4C53-A6B1-D6891ED932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9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7DE-CC78-49C6-970E-7489E60D5E3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976-7714-4A0D-A532-4CD9651635F8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615-9B67-4D77-BE8E-E5C97EE8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dc.gov/tb/faqs/" TargetMode="External"/><Relationship Id="rId2" Type="http://schemas.openxmlformats.org/officeDocument/2006/relationships/hyperlink" Target="http://www.nlm.nih.gov/medlineplus/tuberculosis.html" TargetMode="External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uberculosi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solidFill>
            <a:srgbClr val="33cccc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Myk DeLong, And Anthony Ishma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e: Slideshow will go on its own, no need to press anyth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uberculosis is not common much in the United Sta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common in developing nations because they don’t have the medications they need to prevent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sts have been researching how to stop this disea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1000"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-1315800" y="4363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523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ients with Tuberculosis are cured with antibiot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wo most used antibiotics are called Rifampicin and isoniaz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atment usually lasts about 6-9 mont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9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graph of how tuberculosis spread since 198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5181480" cy="3111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94349"/>
                </a:solidFill>
                <a:latin typeface="Arial"/>
              </a:rPr>
              <a:t>Tuberculosis in the bod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4495680" y="17524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of Tubercul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ght sw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appet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u-Like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trointestinal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20000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1122480" y="2840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e8ba"/>
                </a:solidFill>
                <a:latin typeface="Garamond"/>
              </a:rPr>
              <a:t>People who are most likely to get it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7692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ith HIV infe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that are close to a person who has TB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became infected with TB bacteria in the last 2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and young childr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inject dru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are sick with other diseases that weaken the immune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derly peop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33000">
    <p:strips dir="r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~~Credits~~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Garamond"/>
                <a:hlinkClick r:id="rId1"/>
              </a:rPr>
              <a:t>http://www.cdc.gov/tb/faqs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http://www.nlm.nih.gov/medlineplus/tuberculosis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mayoclinic.com/health/tuberculosis/DS003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pcontent.answers.com/wikipedia/commons/thumb/1/13/TB_incidence.png/350px-TB_incidence.p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students.stedwards.edu/aruiz5/Mycobacterium%20tuberculosis.jp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emedicinehealth.com/tuberculosis/page3_em.ht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31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32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33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9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35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36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37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9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339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0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1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19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3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4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5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347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8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9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9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351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52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53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26Z</dcterms:created>
  <dc:creator>ws09018</dc:creator>
  <dc:description/>
  <dc:language>en-US</dc:language>
  <cp:lastModifiedBy>ws09018</cp:lastModifiedBy>
  <dcterms:modified xsi:type="dcterms:W3CDTF">2009-05-11T20:11:36Z</dcterms:modified>
  <cp:revision>10</cp:revision>
  <dc:subject/>
  <dc:title>Tuberculosis</dc:title>
</cp:coreProperties>
</file>